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54AC-313F-4FBE-A8D1-C3F05133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348-4751-4550-813C-0EA73CD3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F94-6039-4B49-AA63-5C7678DA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7FA-7BB0-492D-9564-70796B25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D18A-DB2A-44C7-A7DD-C688AD0D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200D-753A-4018-86A7-C871B778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EA9D-92F2-4F59-814A-5C431E36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2BF7-FCA1-47E9-97EE-941DB1D0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F5B-7CA6-475F-A8D5-D7095D93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8908-2F8D-4E73-A638-D170147A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1DAC-B4FF-487D-9124-CC0E239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A72-7567-4F74-85FB-054EC1D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35B3-72D9-4BE3-A153-A2763882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375E-255B-41DC-9FE9-CCEE8DC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ACBA-62ED-41C9-B1EE-5A8DFE07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F839-24DE-46F9-83B1-5FA22333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B303-9628-4348-ADA4-BE3147AF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E7B-1859-4393-B2A6-78FC4A50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56A-96A5-4630-AB84-72B35D64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56A-7FCD-48CD-9990-A2FA3753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4BD-3CFB-4DCC-90EA-CAD655AE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BC3-522C-4872-A0E2-B2CBD781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C14A-D860-42C6-8F0F-6EDF37C0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083-4348-4924-81B8-9D446C5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4EF-FFCA-43AC-BB21-FEAA44B5E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E0A6-F2B3-494E-94E6-25ED77EDBA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Ecological Succession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eec94"/>
                </a:solidFill>
                <a:uFillTx/>
                <a:latin typeface="Times New Roman"/>
              </a:rPr>
              <a:t>Succession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Times New Roman"/>
              </a:rPr>
              <a:t>the natural changes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and species replacements which take place in a community of an ecosyste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rimary success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kes place over land where there a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iving organisms.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Very SLOW process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lava from a volcano destroys everything in its path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rimary succession begi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a.  </a:t>
            </a:r>
            <a:r>
              <a:rPr b="0" lang="en-US" sz="6000" spc="-1" strike="noStrike" u="sng">
                <a:solidFill>
                  <a:srgbClr val="feec94"/>
                </a:solidFill>
                <a:uFillTx/>
                <a:latin typeface="Times New Roman"/>
              </a:rPr>
              <a:t>Pioneer species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irst specie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o occupy an area undergoing primary succes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b. </a:t>
            </a:r>
            <a:r>
              <a:rPr b="0" lang="en-US" sz="5400" spc="-1" strike="noStrike" u="sng">
                <a:solidFill>
                  <a:srgbClr val="feec94"/>
                </a:solidFill>
                <a:uFillTx/>
                <a:latin typeface="Times New Roman"/>
              </a:rPr>
              <a:t>Climax community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table, mature community that undergoe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little or no chang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n species.  It can last for hundreds of year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2.  </a:t>
            </a:r>
            <a:r>
              <a:rPr b="1" lang="en-US" sz="4800" spc="-1" strike="noStrike" u="sng">
                <a:solidFill>
                  <a:srgbClr val="feec94"/>
                </a:solidFill>
                <a:uFillTx/>
                <a:latin typeface="Times New Roman"/>
              </a:rPr>
              <a:t>Secondary succession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anges which take plac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AFTE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an existing community is severely disrupted in some w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ccurs in an area t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reviously contained lif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 land t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till contains so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48:23Z</dcterms:created>
  <dc:creator>Clear Creek ISD</dc:creator>
  <dc:description/>
  <dc:language>en-US</dc:language>
  <cp:lastModifiedBy>Clear Creek ISD</cp:lastModifiedBy>
  <dcterms:modified xsi:type="dcterms:W3CDTF">2008-10-16T12:54:12Z</dcterms:modified>
  <cp:revision>1</cp:revision>
  <dc:subject/>
  <dc:title>Ecological Succession</dc:title>
</cp:coreProperties>
</file>